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97B00-C680-4263-A98E-5173ABA8441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A2F0-F5BC-4FAF-AE51-AA3F9383B28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219B-6548-4316-8AF7-8A2DCCF5F10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BF98D-9B7B-4635-9281-6984C04B8C6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680D-4B9C-401D-8D5D-79463980647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EAB28-4CB3-42DC-B295-DE002F05524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0EDF2-D8BD-48B9-A725-685F29A52AF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F24BE-16D6-47E7-B4A6-47BF9C3BF87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32A7A-E2F2-425D-93EE-4AE77677AB2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FE05B-7F1F-41EC-B178-EC9FEE4EBC9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D82E6-A2AC-4A75-8694-AF4E6003310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F3792-D947-4D4B-972B-41C8D35AC04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1302-F276-4375-B0F0-3E5AA96C168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29A27-AAA6-4FE8-BDB3-C8072C162F8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AAF0F-B13E-405A-90F3-7C5B4960175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9DC88-8862-44A4-8E96-A9F7F617B46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6E785-E933-4A2A-880E-D598D6E981F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A6DB8-0094-468B-A328-EE7CBCFD07A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4DFD-3345-4CBA-9F65-A0440EEAA52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B2592-199D-415E-A103-A2559CD4D93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BB8EC-5294-442E-853E-D946B20ED6B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48B9E-F4DA-4156-89EC-F948178C1F9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7E826-DB0E-44C7-A10C-50019BA066E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AADF-253B-4816-B918-E86287F299D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B9FEA-578D-458C-94E4-10B72CAADE7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CE2AF-5CF6-46AE-9582-9E2B05617E7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F8545-2B9F-4CB7-A2F7-9A6DB280D8C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D1451-EA13-4309-B671-008F9813749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9E850-5B7A-4969-9AFD-CA1B57E925F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2775-4724-44F4-B56E-795C3300B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362840"/>
            <a:ext cx="8226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49F9-462A-4CBA-AFA9-63E5CDE3D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4258-4299-414E-BA2B-6A793F98B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362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362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362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FA4B-629B-420B-80E4-76A13B80A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8D12-CE0C-4D3B-9697-B1298B7AE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DA50-1FE8-40D3-95A8-30EA0DEF6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E5DE-398F-49A7-8973-0D38DB05F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3D56-7726-48A9-B0CE-4788D281F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E852-4457-403B-86FC-4D92D2832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6405-B6E6-492E-9B25-1AE605605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CB15-637C-45BD-BA3B-588FC569E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362840"/>
            <a:ext cx="8226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5FE5-6B7A-4718-9B28-D241FD8AD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4720"/>
            <a:ext cx="21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47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37F5B-9679-48D4-8CB4-9761738E91B6}" type="slidenum">
              <a:rPr b="0" lang="et-EE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and schemaless databases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ome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some 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Value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, Property, Valuetype: URI-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Value: URI or literal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Many representation synta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/X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-trip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urt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xample in Turtle synt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rdf: &lt;http://www.w3.org/1999/02/22-rdf-syntax-ns#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dc: &lt;http://purl.org/dc/elements/1.1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ex: &lt;http://example.org/stuff/1.0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&lt;http://www.w3.org/TR/rdf-syntax-grammar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c:title "RDF/XML Syntax Specification (Revised)" 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editor [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fullname "Dave Beckett"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homePage &lt;http://purl.org/net/dajobe/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]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How to add metadata to a r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 timestamp, changer, row id, status etc etc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orrible answer: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ugly head of re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salary      20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ant to add timestamp and entering person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reification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r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      salary               2000     +   timestamp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subject            personid: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predicate        sal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object             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timestamp      2009-10-20 13: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modifier          personid:345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rom the relational db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row, N cols in the relational d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rst, get N rows of four cols in R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cond, get (N*3)+X rows of four cols after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12*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container blu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 vocabul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ing of three predefined types (together with some associated predefined properti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resource that contains things. The contained thing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members of a container may be resources (including blank nodes) or literals. RDF defines three types of contain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B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S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have no real semantics in RD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 semantics would make calc ha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are fake, pointless tempt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3459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cal id-s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ifferent object id-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URI-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se are f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“blank nodes”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ir semantics/use in the RDF spec is broken: creates unnecessary probl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relational databases have been a standard way to store and query data for dec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lementations are complex and polish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QL is everyw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6200" y="3857760"/>
            <a:ext cx="344808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dicate, subject, valuetype URI-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keep a separate table for unique str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numeric string id-s in pred,subject,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oring value? Can be int, float, string, URI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veral ways, all b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several columns for different (main)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parql query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type: &lt;http://dbpedia.org/class/yago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prop: &lt;http://dbpedia.org/property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LECT ?country_name ?popul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ERE 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?country   a   type:LandlockedCountries 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label   ?country_name ;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p:populationEstimate  ?population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L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?population &gt; 15000000 &amp;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ngMatches(lang(?country_name), "EN"))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} ORDER BY DESC(?population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Rule languages for class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e language:  RDFa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:Van    rdfs:subClassOf    ex:MotorVehicl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omplex language: 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ameIndividual:   f:male   g:mascu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unctionalDataProperty:    f:hasW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nverseFunctionalDataProperty:    f:hasW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ReligiousMarriage DisjointWith: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Civil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Marriage Equivalent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ReligiousMarriage OR f:CivilMarri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Universal rule langu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ased on first order logic: sugar and extensions add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ule engine has own language/featu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ttempts to create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K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SO Common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WR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ule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Back to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Most people are not happy with current state of RDF,  OWL or the associated rule langu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languages contain little-motivated complexit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 databases and associated rule systems are relatively slow, when compared to relational bases as they are commonly 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29160" y="2214720"/>
            <a:ext cx="285768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xample suggestio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rop triples for N-tu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ification is b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t metadata directly into the data r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+ schema: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002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roper RDF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 id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name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ncoded in a large numer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typ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uri reference 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etadata on the same 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w id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start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end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stamp of last mod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id (uri reference id  of a web page, database, 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loating suggestions for RDF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ore “ordinary” logic/databas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-tu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conta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striction th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ubject and pred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ust be URI-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“blank nod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ify valu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dd n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 http://www.slideshare.net/PatHayes/rdf-red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Alternatives: existing and s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etwork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bject-relational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ain memory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osql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ocument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XM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RDF, Sparql, semantic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Google Bigtable and MapRedu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11720" y="1736640"/>
            <a:ext cx="3905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-less: obvious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ow with N cols is represented as N rows of three columns, called sometimes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ow/Object id        Column name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ubject                     Predicate                 Ob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milar to key-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be combined 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:Property          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Schema-less is often inevi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 data from numerous sources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ggregate in our own databa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 no control over foreign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understanding of foreign data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data sources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ife is h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ople need schemaless databases. Ye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are s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need „schema“ or rules or something to add more „soft“ structure to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andards/theory is evolving/changing f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obody is happy with what we currently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The only standard (which nobody lov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S): resource description frame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veloped and pushed by W3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rnerstone of the semantic web pro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rge number of systems 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lot of 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57960" y="5000760"/>
            <a:ext cx="15051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triple not really a tri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 Value 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ith valuetype normally being eith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of xml schema data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id: U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0:49:55Z</dcterms:created>
  <dc:creator>tanel</dc:creator>
  <dc:description/>
  <dc:language>en-US</dc:language>
  <cp:lastModifiedBy/>
  <dcterms:modified xsi:type="dcterms:W3CDTF">2015-03-02T13:09:51Z</dcterms:modified>
  <cp:revision>65</cp:revision>
  <dc:subject/>
  <dc:title>RDF and schemaless databases: some notes</dc:title>
</cp:coreProperties>
</file>